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751B-F9DB-435C-90C5-694C1A4A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B07-B6E4-4BA1-9335-56C799DE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E21-1861-44D6-A77D-43C5D25C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2D9-F75E-4EB1-A74B-17748A77F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72D5-A784-47FF-88E0-523F6CE3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C80D-22D9-4435-AE34-6B8B850E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30C4-A117-4CEA-9F86-9CE68FA4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2688-81FD-43BC-81CA-99F7828B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A926-F4E3-49A4-B9F6-780B552D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9789-7D0A-493A-A61C-A76EFC1C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E6E7-295A-4431-AF8E-7752FB55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949-68E9-4956-8C44-4792A252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73DC5-A1E3-4FB2-906D-2F343BCB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BE75-8669-4372-822E-8D7C760D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03ED-7234-4105-B32E-70ED25BE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99CB-7559-4373-95B1-CB6EDF59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072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76676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0748-9636-4EC9-846A-8D9C7ADA2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6AD-0FA6-4FA4-A3EF-A1E2F94D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383-53B6-43E5-A4E9-1A84B6D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29C-1C33-4468-8450-3317A615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767-BC8A-4B19-AAAF-C09C6E574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E0B-438D-49AE-9171-FEE55B83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76676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35DB-90AA-4A79-BBAF-15AAA3A8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072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76676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D63-1FBE-4C91-9FDF-C79C160E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D872-38B1-4533-9527-CC265F3DC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864F-3446-44B7-8276-0CC44A343E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us.history.wisc.edu/hist102/photos/html/1144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Tahoma"/>
              </a:rPr>
              <a:t>TRANSITION TO MODERN AMERICA</a:t>
            </a:r>
            <a:endParaRPr b="0" lang="en-US" sz="40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80010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Roaring Twentie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rts, like golf and baseball, became much more part of national popular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ade was notable for obsessive interest in celebrities like Charles Lindbergh &amp; Gertrude Eder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 became an all-consuming topic of interest in popular enter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Flowering of the Art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ienation from 20s’ mass 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"Exiled" American writers put U.S. in forefront of world lit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.S. Eli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nest Heming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. Scott Fitzgera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rs like Sinclair Lewis and H.L. Mencken criticized flaws and contradictions of 1920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lem Renaissance: African Americans prominent in music, po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ngston Hug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Rural Counterattack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ral Americans identified urban culture with Communism, crime, immor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ives attempted to force reform on the America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surge of bigo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ra of r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Fear of Radicalism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9:  “Red Scare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legal roundups of innocent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ible deportation of al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orism against “radicals,”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7: Sacco and Vanzetti execu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495520" y="457200"/>
          <a:ext cx="423540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5520" y="457200"/>
                    <a:ext cx="4235400" cy="5829480"/>
                  </a:xfrm>
                  <a:prstGeom prst="rect">
                    <a:avLst/>
                  </a:prstGeom>
                  <a:ln w="7632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905120" y="808200"/>
          <a:ext cx="5410080" cy="53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08200"/>
                    <a:ext cx="5410080" cy="5316480"/>
                  </a:xfrm>
                  <a:prstGeom prst="rect">
                    <a:avLst/>
                  </a:prstGeom>
                  <a:ln w="76320">
                    <a:solidFill>
                      <a:srgbClr val="ffcc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rohibi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th Amendment gave federal government power to pass Volstead Act of 1920 that prohibited production, sale, or transport of alcoholic bevera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mption of alcohol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hibition resented in urban are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tlegging became big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: 18th amendment repea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5756040"/>
            <a:ext cx="8229600" cy="94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"Ladies of Logan" sing hymns in front of bars in aid of the temperance move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5" descr="Temperance sing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280"/>
            <a:ext cx="7696080" cy="55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VDP_-prohibition-poster_ezr"/>
          <p:cNvPicPr/>
          <p:nvPr/>
        </p:nvPicPr>
        <p:blipFill>
          <a:blip r:embed="rId1"/>
          <a:stretch/>
        </p:blipFill>
        <p:spPr>
          <a:xfrm>
            <a:off x="2057400" y="152280"/>
            <a:ext cx="50976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prohibition_titanic"/>
          <p:cNvPicPr/>
          <p:nvPr/>
        </p:nvPicPr>
        <p:blipFill>
          <a:blip r:embed="rId1"/>
          <a:stretch/>
        </p:blipFill>
        <p:spPr>
          <a:xfrm>
            <a:off x="1959120" y="76320"/>
            <a:ext cx="53942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Second Industrial Revolu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developed the highest standard of living in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1920s and the second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ity replaced ste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assembly introduc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5" descr="n03406"/>
          <p:cNvPicPr/>
          <p:nvPr/>
        </p:nvPicPr>
        <p:blipFill>
          <a:blip r:embed="rId1"/>
          <a:stretch/>
        </p:blipFill>
        <p:spPr>
          <a:xfrm>
            <a:off x="2344680" y="0"/>
            <a:ext cx="507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prohibitioncorner"/>
          <p:cNvPicPr/>
          <p:nvPr/>
        </p:nvPicPr>
        <p:blipFill>
          <a:blip r:embed="rId1"/>
          <a:stretch/>
        </p:blipFill>
        <p:spPr>
          <a:xfrm>
            <a:off x="190440" y="762120"/>
            <a:ext cx="86486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5" descr="drink_leads_to_divorce-550x841"/>
          <p:cNvPicPr/>
          <p:nvPr/>
        </p:nvPicPr>
        <p:blipFill>
          <a:blip r:embed="rId1"/>
          <a:stretch/>
        </p:blipFill>
        <p:spPr>
          <a:xfrm>
            <a:off x="2397240" y="76320"/>
            <a:ext cx="438444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failure_success_prohibition_cartoon-780x292"/>
          <p:cNvPicPr/>
          <p:nvPr/>
        </p:nvPicPr>
        <p:blipFill>
          <a:blip r:embed="rId1"/>
          <a:stretch/>
        </p:blipFill>
        <p:spPr>
          <a:xfrm>
            <a:off x="0" y="1225440"/>
            <a:ext cx="914400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Ku Klux Kla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th of a N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5 silent movie glorified KK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5: Klan membership hit 5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ack on urban culture, inhabi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of traditional rural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lan sought to win U.S. by persua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ce, internal corruption resulted in Klan’s virtual disappearance by 193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Immigration Restriction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4: National Origins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,000 person quota on im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otas favored northern Europea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 immigrants exempted from qu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Fundamentalist Challeng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ism:  Stress on traditional Protestant orthodoxy, biblical liter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5: Scopes Trial discredited fundamentalism among intellectu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ists” gained mainline chur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ists strengthened grassroots appeal in new church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olitics of the 1920s 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party apparently domin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rban wing of the Democratic party  emerged as the most powerful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Harding, Coolidge, and Hoover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presidents appealed to traditional American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ing scandals break after his de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idge represented America in his austerity and rectitu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ver represented the self-made 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Republican Policie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urn to "normalcy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s rai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, income taxes c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ding c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olidge blocked Congressional aid to farmers as unwarranted inter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ment-business 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Automobile Industry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 makers stimulated sales through model changes, adverti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 industry fostered other busi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s encouraged suburban spra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7200" y="165240"/>
            <a:ext cx="8220240" cy="669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Divided Democrat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4: Urban-rural split weakened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shift in political loyal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gained more Congressional seats than Republicans after 192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Election of 1924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255" name="Picture 4" descr="DIVI7233TB2501"/>
          <p:cNvPicPr/>
          <p:nvPr/>
        </p:nvPicPr>
        <p:blipFill>
          <a:blip r:embed="rId1"/>
          <a:srcRect l="0" t="18652" r="0" b="0"/>
          <a:stretch/>
        </p:blipFill>
        <p:spPr>
          <a:xfrm>
            <a:off x="1143000" y="2514600"/>
            <a:ext cx="74296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Election of 1928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 Al Smith carried urban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or of New Yor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Herbert Hoover won r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wester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n the campaign’s decisive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DIVI7233554"/>
          <p:cNvPicPr/>
          <p:nvPr/>
        </p:nvPicPr>
        <p:blipFill>
          <a:blip r:embed="rId1"/>
          <a:stretch/>
        </p:blipFill>
        <p:spPr>
          <a:xfrm>
            <a:off x="2438280" y="685800"/>
            <a:ext cx="52293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The Old and the New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historical view:  The Depression ended the spirit of the twen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historical view: The twenties laid the foundations of moder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Patterns of Economic Growth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technologies meant new industries: radio and motion p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managers replace dindividual entreprene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ions became the dominant business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ing and national brands sp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 business weakened regionalism, brought uniformity to Americ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Glenwood Stove Ad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63" name="Picture 4" descr="DIVI7233538"/>
          <p:cNvPicPr/>
          <p:nvPr/>
        </p:nvPicPr>
        <p:blipFill>
          <a:blip r:embed="rId1"/>
          <a:stretch/>
        </p:blipFill>
        <p:spPr>
          <a:xfrm>
            <a:off x="3124080" y="1752480"/>
            <a:ext cx="3595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Economic Weaknesses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poorly mana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l displaced by petrole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 faced decline in exports,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disparity between income of laborers, middle-class mana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class speculated with idle mo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City Life in the Jazz Age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increase in urban popul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yscrapers symbolized the new mass cul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ies of home, church, and school were absent in the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Women and the Family</a:t>
            </a: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going crusade for equ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ppers” sought individual free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omen remained in domestic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y of adolesc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enaged children no longer needed to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lged their craving for exci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143000" y="1980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3" descr="Flapper3"/>
          <p:cNvPicPr/>
          <p:nvPr/>
        </p:nvPicPr>
        <p:blipFill>
          <a:blip r:embed="rId1"/>
          <a:stretch/>
        </p:blipFill>
        <p:spPr>
          <a:xfrm>
            <a:off x="228600" y="3505320"/>
            <a:ext cx="3238560" cy="4127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Flapper2"/>
          <p:cNvPicPr/>
          <p:nvPr/>
        </p:nvPicPr>
        <p:blipFill>
          <a:blip r:embed="rId2"/>
          <a:stretch/>
        </p:blipFill>
        <p:spPr>
          <a:xfrm>
            <a:off x="4308480" y="0"/>
            <a:ext cx="4835520" cy="5591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flappers"/>
          <p:cNvPicPr/>
          <p:nvPr/>
        </p:nvPicPr>
        <p:blipFill>
          <a:blip r:embed="rId3"/>
          <a:stretch/>
        </p:blipFill>
        <p:spPr>
          <a:xfrm>
            <a:off x="0" y="0"/>
            <a:ext cx="4205160" cy="36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13:35:08Z</dcterms:created>
  <dc:creator>Timothy Hall</dc:creator>
  <dc:description/>
  <cp:keywords/>
  <dc:language>en-US</dc:language>
  <cp:lastModifiedBy>Matthew Myers</cp:lastModifiedBy>
  <cp:lastPrinted>2012-09-21T06:17:17Z</cp:lastPrinted>
  <dcterms:modified xsi:type="dcterms:W3CDTF">2011-02-23T14:20:06Z</dcterms:modified>
  <cp:revision>11</cp:revision>
  <dc:subject/>
  <dc:title>CHAPTER 25 TRANSITION TO MODERN AMERICA</dc:title>
</cp:coreProperties>
</file>